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7CA-19D2-489E-B7C2-386357DB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F4F-6780-486F-AD1F-A95EDE62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55D-5C15-4F5F-8935-F2F9FA82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314-4BB4-462A-AB0C-33B55BFC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B5C-2B25-40D5-86EB-BFE63A9A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D2A-0B1D-4DE7-9EFF-9FEA3BB2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3DF-646D-4C1C-A055-B258B98B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A85-F524-446F-999B-A8C6065A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C61-A215-41BD-A30C-E7765E96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05BE-96E3-4439-8CB6-BA2DFE39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BEB-2275-4F8D-843E-1895CAD6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C20-2D78-469A-AC85-9F5CF1B5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0A41-435F-4865-9020-7D3E26128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798560" y="326880"/>
            <a:ext cx="6207120" cy="4105440"/>
            <a:chOff x="1798560" y="326880"/>
            <a:chExt cx="6207120" cy="4105440"/>
          </a:xfrm>
        </p:grpSpPr>
        <p:grpSp>
          <p:nvGrpSpPr>
            <p:cNvPr id="42" name="Group 1"/>
            <p:cNvGrpSpPr/>
            <p:nvPr/>
          </p:nvGrpSpPr>
          <p:grpSpPr>
            <a:xfrm>
              <a:off x="1798560" y="326880"/>
              <a:ext cx="6207120" cy="4105440"/>
              <a:chOff x="1798560" y="326880"/>
              <a:chExt cx="6207120" cy="4105440"/>
            </a:xfrm>
          </p:grpSpPr>
          <p:sp>
            <p:nvSpPr>
              <p:cNvPr id="43" name="TextBox 3"/>
              <p:cNvSpPr/>
              <p:nvPr/>
            </p:nvSpPr>
            <p:spPr>
              <a:xfrm>
                <a:off x="5414400" y="326880"/>
                <a:ext cx="2591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ORF6 antibody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TextBox 5"/>
              <p:cNvSpPr/>
              <p:nvPr/>
            </p:nvSpPr>
            <p:spPr>
              <a:xfrm>
                <a:off x="2487600" y="326880"/>
                <a:ext cx="203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re-immune serum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TextBox 4"/>
              <p:cNvSpPr/>
              <p:nvPr/>
            </p:nvSpPr>
            <p:spPr>
              <a:xfrm>
                <a:off x="1798560" y="3473640"/>
                <a:ext cx="144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46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46040" y="2660760"/>
                <a:ext cx="2413080" cy="177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228760" y="815760"/>
                <a:ext cx="2411280" cy="177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6120" y="815760"/>
                <a:ext cx="2413080" cy="177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TextBox 6"/>
              <p:cNvSpPr/>
              <p:nvPr/>
            </p:nvSpPr>
            <p:spPr>
              <a:xfrm>
                <a:off x="1798560" y="1523880"/>
                <a:ext cx="614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0" name="Pictur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78440" y="2660760"/>
                <a:ext cx="2413080" cy="177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TextBox 1"/>
            <p:cNvSpPr/>
            <p:nvPr/>
          </p:nvSpPr>
          <p:spPr>
            <a:xfrm>
              <a:off x="4109040" y="22183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8f8f8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Box 12"/>
            <p:cNvSpPr/>
            <p:nvPr/>
          </p:nvSpPr>
          <p:spPr>
            <a:xfrm>
              <a:off x="6899400" y="221436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8f8f8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13"/>
            <p:cNvSpPr/>
            <p:nvPr/>
          </p:nvSpPr>
          <p:spPr>
            <a:xfrm>
              <a:off x="4109040" y="406296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8f8f8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Box 14"/>
            <p:cNvSpPr/>
            <p:nvPr/>
          </p:nvSpPr>
          <p:spPr>
            <a:xfrm>
              <a:off x="6899400" y="405036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8f8f8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TextBox 1"/>
          <p:cNvSpPr/>
          <p:nvPr/>
        </p:nvSpPr>
        <p:spPr>
          <a:xfrm>
            <a:off x="685800" y="5943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 Fig.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19:45:02Z</dcterms:created>
  <dc:creator>Jin, Ling</dc:creator>
  <dc:description/>
  <dc:language>en-US</dc:language>
  <cp:lastModifiedBy>Jin, Ling</cp:lastModifiedBy>
  <dcterms:modified xsi:type="dcterms:W3CDTF">2016-09-23T22:46:41Z</dcterms:modified>
  <cp:revision>5</cp:revision>
  <dc:subject/>
  <dc:title>PowerPoint Presentation</dc:title>
</cp:coreProperties>
</file>