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DF8-B935-45BB-8CCB-9A12043E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31D-D4BF-4D53-AF77-FFDEF6A8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CDE-B705-4290-865E-0F8428B0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535-411A-40B8-9742-747803D5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20C-3BE8-4080-A034-D61779FD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85E-6BF8-45AF-9CF0-9DA52599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695-9928-4BA3-A62F-EED37B45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5C6-B22E-4EE2-BB12-4B5F2A83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312-486A-4191-A8D3-C1EC0850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36D-E417-4A69-8A01-6346A36C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73C-C0BC-4F3F-B483-9EAEDE2E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EFA-FAE5-43D6-AD95-E746A775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961F-C923-4DD4-B306-BB9FB6918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925560" y="3100320"/>
            <a:ext cx="7435800" cy="1828800"/>
            <a:chOff x="925560" y="3100320"/>
            <a:chExt cx="7435800" cy="1828800"/>
          </a:xfrm>
        </p:grpSpPr>
        <p:pic>
          <p:nvPicPr>
            <p:cNvPr id="42" name="Picture 2" descr=""/>
            <p:cNvPicPr/>
            <p:nvPr/>
          </p:nvPicPr>
          <p:blipFill>
            <a:blip r:embed="rId1"/>
            <a:srcRect l="8371" t="11366" r="0" b="17705"/>
            <a:stretch/>
          </p:blipFill>
          <p:spPr>
            <a:xfrm>
              <a:off x="1765440" y="3100320"/>
              <a:ext cx="659592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Group 5"/>
            <p:cNvGrpSpPr/>
            <p:nvPr/>
          </p:nvGrpSpPr>
          <p:grpSpPr>
            <a:xfrm>
              <a:off x="925560" y="3264120"/>
              <a:ext cx="839880" cy="492120"/>
              <a:chOff x="925560" y="3264120"/>
              <a:chExt cx="839880" cy="492120"/>
            </a:xfrm>
          </p:grpSpPr>
          <p:sp>
            <p:nvSpPr>
              <p:cNvPr id="44" name="TextBox 1"/>
              <p:cNvSpPr/>
              <p:nvPr/>
            </p:nvSpPr>
            <p:spPr>
              <a:xfrm>
                <a:off x="925560" y="3264120"/>
                <a:ext cx="744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Identity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TextBox 4"/>
              <p:cNvSpPr/>
              <p:nvPr/>
            </p:nvSpPr>
            <p:spPr>
              <a:xfrm>
                <a:off x="925560" y="3418920"/>
                <a:ext cx="839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1. KHV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2. RT-PCR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Group 7"/>
            <p:cNvGrpSpPr/>
            <p:nvPr/>
          </p:nvGrpSpPr>
          <p:grpSpPr>
            <a:xfrm>
              <a:off x="925560" y="3824640"/>
              <a:ext cx="839880" cy="502920"/>
              <a:chOff x="925560" y="3824640"/>
              <a:chExt cx="839880" cy="502920"/>
            </a:xfrm>
          </p:grpSpPr>
          <p:sp>
            <p:nvSpPr>
              <p:cNvPr id="47" name="TextBox 8"/>
              <p:cNvSpPr/>
              <p:nvPr/>
            </p:nvSpPr>
            <p:spPr>
              <a:xfrm>
                <a:off x="925560" y="3824640"/>
                <a:ext cx="744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Identity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TextBox 9"/>
              <p:cNvSpPr/>
              <p:nvPr/>
            </p:nvSpPr>
            <p:spPr>
              <a:xfrm>
                <a:off x="925560" y="3990240"/>
                <a:ext cx="839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1. KHV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2. RT-PCR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Group 10"/>
            <p:cNvGrpSpPr/>
            <p:nvPr/>
          </p:nvGrpSpPr>
          <p:grpSpPr>
            <a:xfrm>
              <a:off x="925560" y="4399560"/>
              <a:ext cx="839880" cy="492120"/>
              <a:chOff x="925560" y="4399560"/>
              <a:chExt cx="839880" cy="492120"/>
            </a:xfrm>
          </p:grpSpPr>
          <p:sp>
            <p:nvSpPr>
              <p:cNvPr id="50" name="TextBox 11"/>
              <p:cNvSpPr/>
              <p:nvPr/>
            </p:nvSpPr>
            <p:spPr>
              <a:xfrm>
                <a:off x="925560" y="4399560"/>
                <a:ext cx="744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Identity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TextBox 12"/>
              <p:cNvSpPr/>
              <p:nvPr/>
            </p:nvSpPr>
            <p:spPr>
              <a:xfrm>
                <a:off x="925560" y="4554360"/>
                <a:ext cx="839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1. KHV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2. RT-PCR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2" name="TextBox 13"/>
          <p:cNvSpPr/>
          <p:nvPr/>
        </p:nvSpPr>
        <p:spPr>
          <a:xfrm>
            <a:off x="925560" y="1351080"/>
            <a:ext cx="23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up Fig.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19:49:10Z</dcterms:created>
  <dc:creator>Jin, Ling</dc:creator>
  <dc:description/>
  <dc:language>en-US</dc:language>
  <cp:lastModifiedBy>Jin, Ling</cp:lastModifiedBy>
  <dcterms:modified xsi:type="dcterms:W3CDTF">2016-08-01T19:49:44Z</dcterms:modified>
  <cp:revision>1</cp:revision>
  <dc:subject/>
  <dc:title>PowerPoint Presentation</dc:title>
</cp:coreProperties>
</file>